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9FC-7421-4F8E-A705-91125E25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0ED-D8FC-4CD0-8126-9BC44897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EBFFA-2E41-4663-951A-3304E606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4830C-9FD9-4DEC-99F8-89C27074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490CD-5FEA-4A47-B860-F7265F27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E6F41-848B-4C48-BA07-38F63949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B1799-1B3C-4A51-8859-D961019D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F8BC8-8A8D-494D-A1CF-4C7903B3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7E35D-8203-4EBA-8C32-339A622E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35F7E-FB6E-4778-8905-15FBC2F4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10732-8C21-4AF4-8CFB-2BA4B9E7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F6635-E53C-4E3B-8900-0190DE04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4AD-95ED-4BBD-8A52-671B97B3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ED9A8-DC1E-4B26-84CB-74A6F449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A9C47-9947-4689-B408-FE4D725C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1C02D-DF76-409B-96A5-A0661B1D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8318E-50D6-4B29-AD7D-78D16C2C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34F08-1DC1-4219-8E22-1A19F3DF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3FB3B-7D2A-4932-8020-9DC7FC64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B02CE-D63D-48EA-AE21-4702EB76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F2525-E28C-46CF-A8CA-7A15B2C1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780B1-8C41-49CE-8356-F38276DE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B5FD3-B1F9-4083-AE65-6733B6B6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A34-C433-4F3F-ADD0-42488C8D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5D7AC-310D-4A94-AEC6-D98F5817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D421F-6D38-4636-9EE4-0E2BA54B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0B7ED-C132-4B07-84D9-5A4C64D9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B9384-14C1-44A2-BDBA-E5C50DD4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2080A-8A27-4C25-BD55-3B6A5EB7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85E42-043A-422C-9664-A791A62C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D846A-0BCC-42DA-8E21-92BFC774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00F7B-7547-4A82-9F67-59C016C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1E085-E284-4D77-8FC6-134441A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67023-EBA4-4796-B31D-63B7D790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DD5C-5221-4E3F-A369-F96B10DE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37D93-8767-4C6C-A0AC-9BFD05AD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69E33-FBC8-4264-9702-7F36BF07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CF1B4-4221-404C-9966-8C1C65B5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32461-1015-430E-B4AE-43E51A53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67B4D-49BD-4209-9DF8-13705AA5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1963A-3BDC-463B-9F70-E9103361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C5D84-089F-4761-ADF5-31DF0A84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E3391-538D-41A5-AE3B-41A6DA48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79518-6CF2-4210-9C28-B50082E0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06A2A-2088-4565-8632-C649C066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8D4D-530C-4174-8ADB-52422B36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553B7-0139-4300-8F13-27AAA39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2EEFE-5B28-4CBF-B5E9-45167B30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F856C-4906-4B4C-9054-EF7E5C09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73CE9-B97A-4E14-9264-281C3FEB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AA408-5D5E-46C0-BF2F-403DD303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8097F-AC1E-47E5-BEA6-18E995EA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84EE0-ADBF-422E-8232-E5B227BC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EE7B9-95E5-4CBA-89DB-E7597B48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D1345-9BF9-4232-8DDD-EDF6B675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A214A-0434-4E64-ACDA-34181089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F77B-F4F1-4FF0-B7A3-37B2EC9A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6D898-BF63-4FFC-8CA2-C767591F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C1AA2-48B5-497E-BDE9-83BC54DF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A5006-B658-4CB7-9E0E-2CD354E0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F7DC3-FEBF-476B-BF2C-39EAD1F1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0C5BC-10C1-461E-87E6-A231F994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03129-D581-4954-8CC2-33B0C7B7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F2A32-2DC6-4847-86FB-381B1C68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378E2-5062-4862-82E4-239E8B11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CF537-3229-4249-BCE8-EAC80A57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3C49E-6193-4D7A-A7A8-54BB0E9E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CF91-8CA1-4BAA-AF22-21BFF4D7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F479E-BE6F-40F3-A332-14788C7D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E0149-06C9-48C9-8050-EAF318A6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43C9D-4416-412F-8140-62F5BEC3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03AFD-02CF-4FEC-9198-2B9AA549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7B525-7D0A-45CA-8F97-846518E6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73FED-F30F-404E-B41A-646B0591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B33DE-5DB4-4413-A18C-4AA226FB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E5195-DECA-478C-8C1D-CF977839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C3954-3395-49B7-9ADB-09DEC53D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9C5AD-1C5C-4766-BF62-477CA456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E264-10AE-43B9-95F8-5594A464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554C5-60A2-437F-BAE0-8D4E880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D3DC5-442E-4F18-ADC5-614A8D9B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5DE38-624A-43A0-A3D4-4B295CEF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1EDD7-827D-4370-BDFC-90ACEB08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890BD-6AD1-4135-8320-39A33D45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086C3-CE95-40FE-9FE0-50C78DE5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1C613-DE0E-4914-9790-F4FCC037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E853B-6FF7-498A-9AFA-CCE9EE42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60E324-BE15-477E-92F6-F2BBD563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DCBDC-EE29-49E3-AD1F-50D73356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E21E-3921-4BD4-8AF9-F9B22CF6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4F61A-5C6C-4B61-99E7-111D6A26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37D36-CEB4-4BDF-BF50-4BDBEA19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C7246-0023-457F-83DE-A126B302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CFD4D-7A15-4E35-897E-5C5895DE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95F02-AA7E-48C3-909A-9049A002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1FA3C-006B-4EA6-826E-10A7ED09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B81DD-E782-45EB-9245-FF2A6B01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6D8BE-7A82-4E13-A0A7-9A98A81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BEA31-0D34-4F17-B412-C4970F0B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B70A1-FC8E-434A-86E2-7D2946C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578A-34DC-429E-A3C3-1FFE6470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07430-3DB3-4C14-92A8-5B445204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010ED-796E-4E3B-835B-A64A5581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34BA1E-0B3A-4465-B659-C1C5268C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DA01C-11CD-4EDD-9A6E-F9FE15BB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16E86-C27C-41C4-A78B-D65989AB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863F7-219C-408D-B503-DCFFA57F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07CF6-EFE2-4B0B-8A8D-F5F3E84B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DA984-22B8-4040-B9BB-40BCDD99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DFE34-B8D1-45EF-B841-FD64532D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AA8B6-F812-40D4-886F-BB63E9D1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A82-EC30-44C8-B0CB-A2FB5855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6652-F163-49EF-BA45-C2B533C9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8FC3D-7004-4526-AE96-AFB56E43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71CA6-7D2C-41E9-8F84-B296F786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CDE2A1-B78D-48BF-8ABA-DA81601F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B2C26D-C4E8-4548-BFE8-C3B23FB4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40771-5ED7-4A2B-A5F0-D62CAD1F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A2C45-ABFF-47D2-BEB2-F2627D30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C184F7-5C3D-4EC4-9C8A-EF3678EE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3479E-F5C1-491E-86FB-AFC88932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AF127-F2C3-4B5A-8EC8-5CD99D39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CD11C-BC4E-4A98-945C-0E8A0BFA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45C1-0822-4748-86A8-ADB239A1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9F34A2-F110-48B1-905D-E9A0DC68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C3509-E82E-4B86-B8DB-0FA51B75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6D9861-3FAE-49A1-8A13-6EC40C3D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79EC3-8DE1-4419-BC96-121F188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19FBF-55FE-4CF2-A6AF-78B806ED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3094F2-EC0F-4FE7-AA0D-45DBF385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45394-E410-41DA-94C2-B65E0BFB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8A353-C5E2-493B-9303-E4EEFAF3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7DD933-7226-4879-893A-F4C12C3C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0E5DA-025F-42A1-8CC0-4D595A3A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1169-F8F6-4095-AED9-5837BD82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A6246B-2858-4E93-B0CF-9719D325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63F940-AE59-448B-ACF1-74A97C34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AE542-9974-4FFC-B4B4-9596C60B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05D4A6-C78C-477A-8E77-761CAA8F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2F4935-E78C-4C9C-92B0-4B65B63B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5EE898-52BC-4221-B69D-F8693FA2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4D78D-86EF-491C-B4D0-E6C090A2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89ED6-3E3A-4364-BDA0-8BFC3A03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39F81C-7050-4DDA-BB09-006A4B2A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2BE73F-1A6D-4EF5-8133-A45F50E5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6C74-0AD3-4833-9739-05E344DD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FCF8E-F937-426A-9285-41B9DE39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E65B4-5140-41C8-A729-76E84036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6B177C-82BA-4409-84A6-C19EC8F1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8EDDA-8263-47A2-A5CC-1C65EB01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C2A04E-BBFB-4AA0-8F87-B10C5975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084B3A-0FFE-4014-AD7D-81D4B1F7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A86FEF-7BCE-4DB3-ACD1-3AF16844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F74BE-544D-4722-BED5-C1EC6C8E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26A30E-D23E-44C7-BCBB-839657DE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A7B51B-6C84-47EC-BC81-59004A0F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6E66-EE16-4E76-81B1-2CA4E265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6E4AC8-45F8-487B-BB55-67A8CCF1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314CB4-AB0B-468D-8E64-92C2A0C0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758F90-8D1E-4002-93ED-EF14CECB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D64F57-1C56-45A6-8D66-6FBCE2C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D12D8-E2CB-4D8A-A1FF-B9B0AB0C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482C6A-0E80-43A0-BEFF-6FFFF352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83521-4494-4F72-9260-5145D77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AA2E22-DF7F-4E9B-B138-CB625D68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A5732-068C-4EED-B2DF-75B4D88E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F56004-C5E6-4255-BC22-E4DBBB80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8E6D-8881-4875-B734-EF83D892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28D860-9B78-47AD-9D8B-BEAE29DB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C516E9-CB44-48C7-B3A9-B4CBAAC9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EF05AD-66C6-4F51-B26F-0A964022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E0328-B1E7-4119-B435-0A42DC0C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59149D-292B-413D-BC47-6945541C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317A63-01FF-4F8F-99B6-4B0403F7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997E27-3832-4954-A241-BB005BC2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8E3F9-25EF-4C58-A76F-9352D739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33E92E-0183-4A8E-81F9-D81A1592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8EF7DF-A2EF-4E34-ACDE-E3C4C9A4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EDB9-A86C-44D9-AF40-3D020F09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E20851-26B9-4771-8161-E395CBC7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5B6633-0A9F-4ED0-A588-1D4603BF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3BB826-3796-44CA-8BF1-3A31DC4A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96189D-126B-435A-AB93-221C0A57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BEAEBD-13B1-4B5C-B55B-8484EA4A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A7FB88-FB45-40AB-9CAD-FAD9CC1F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F8AD91-D644-453B-B4CF-72778F81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62A4D9-6EE1-4A93-A882-AB778D47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277E6D-89AF-4348-BC34-234C3979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8178F9-97FE-41AF-B567-5F70E881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07E1-4384-469B-AD5E-25813448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A28CBF-4664-4A62-98D1-9A25CACE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5A4314-A25B-4EA5-B92B-604344FE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01CA03-67EE-4CD4-9DF6-A7DDA3B4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EF6279-ECFE-4EB7-A9BF-0FF716D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771119-7D2E-4CED-8257-5F72ACBF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B2E1B3-2CFE-4ECD-9C25-6A420038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9EC856-89CA-4306-9F4E-0EDF2DAA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E8239E-F253-46BC-BF9A-48396F04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62447B-FECD-4BA7-A46C-3E120958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3F5D7A-285E-4999-A6BC-E73A7CC4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A210-97C1-4D48-A317-0B2D1E26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00B64F-173A-43FF-878A-DFFBD3C2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CDAA65-E8E5-4DA4-B22B-C9BC15FE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0E3725-1B72-4AE8-AC14-8EDF3EED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54F060-0D95-42DF-BB42-C66BD4AA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7555F8-8AFC-453D-88A8-0ADB5F96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5B65C7-FC35-43B6-8C40-CE53A2ED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0D0E67-B42D-43E5-A85F-0A0A342F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AFC4C4-6577-4544-88F6-E08A696B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CC0CB8-111F-4C9A-93E1-026354E2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B3C0C1-B0DA-4E87-90BD-9CC6AF82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A967-527F-4930-AB7D-2EC5FEAC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4CC542-642C-481C-8452-C14EA78B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6543F3-A9B1-495F-A5F2-39DE0B61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76805C-D890-4AF1-B99B-C8736EE5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A2441E-743D-49A1-A1D4-1BC46DD9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BFA7AF-EE1A-4D92-9725-A42E7C34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504F74-1BEC-4AB1-9414-C12781F5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B14174-017C-4007-BCE1-155989DC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CF1FB9-4AA1-4ED9-9711-28600B70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2E18BA-EDDE-476C-8D36-619755E5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4CF905-6587-4B97-9870-A7F8988D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82C-2F17-459F-8854-8B4B9C8F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AE1B-675C-49F2-94F2-55DB94FF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28DB19-1286-41D7-A0BF-8297AD2D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CBD16C-FB8F-4F5A-9B2F-8897E8AA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EFCCE7-7AB5-45C8-9E5D-CE8951C0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789252-BC9F-48E4-9902-38890CFD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C2AB72-B734-40A5-B009-44BCEF53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4F70E8-3E8F-4761-95AF-59A21D98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B04A53-0B43-4559-8349-33452F46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EBB256-8FD9-4954-9254-349243FD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9E56D4-10CB-4F8D-B971-BB2A3C0E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A1CE9B-B0CC-4215-820F-650F429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5942-7362-45E1-BDF5-1170253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BB73AB-BD1B-4043-8CBC-6D01BCA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9484A2-2067-4436-B151-CEACBB56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3ABB1C-2995-4741-871E-C08282F7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08189B-65A8-4BAC-87C8-54C01CC6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A8439F-AF5F-4EBF-AD00-A193CD0A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935BC2-6A34-4C12-AA08-874D50CF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9FB620-553F-4A34-A939-551507CC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6DDD2F-535D-497D-A2D1-71ADBD43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186307-C5D9-4469-B3B3-D14D4594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7E9853-25A1-4281-8B65-02B50200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037C-1AA6-490D-B318-84E4225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A3FDD8-DC2B-41E3-9BDC-5C6D523F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5C7BE8-8B7D-40B0-8591-8F0782AE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CCF39D-28D6-4067-A5A6-3A23EA4F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5EDA0A-E09D-4B68-936C-C84F0779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289F27-685D-4F96-A05E-4E320E08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74FCCA-D936-465C-88CB-7B152212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895D91-D844-4176-8846-CEE5A8DB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E91CDF-2FED-432A-893C-CD7DC235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56A322-E85A-4A88-BF93-6E2A0F15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3AE976-AEDB-45B5-AAB6-B64DB6DA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FA15-AF80-418A-A056-694CA46A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6EACEB-BFF2-4745-8B63-FC8ACCB1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63D6CF-B390-4D27-BA36-97D684CF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453B5F-8855-4735-BD2E-0C4F3C7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4AA538-334F-4AE4-965E-655F94C9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1D6E39-72E6-417B-9B00-128DD02B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630B88-E6EB-4787-B5DB-A5C59057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57BF52-E513-4179-B2BC-1FAB8880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A434B9-8F94-45F8-97C7-73889E5E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60B234-3A7F-4AB4-8C4F-12043EB9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8B4B7D-01EB-4582-A0AB-A6A094DB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00EA-4364-40B5-9FDA-4ADCAABE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B80BA8-B40F-436F-8ACA-91D64960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9F4CAA-1BEC-41D7-8D8C-CFDF5A4A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3819EF-A478-46BE-A736-AC2541E6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1DF0BC-B92D-40AA-8878-D3000C57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314627-6D01-4AB3-8476-E3B9B3E6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92BA7B-6F6B-47BE-8B81-4267ADCE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C15534-B9C0-43D3-9E7A-951443D1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7AFFE0-4D35-4DE0-BEEC-21A2E6E6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D6C097-FB72-428D-8B45-8654811F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2929B3-6468-4922-95E8-759E1518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DA37-6F41-4BA8-A799-605F6ABB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445B16-6ECF-4D32-9F98-3FF8A568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CF5D93-1715-4E1C-8989-FC101CD6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BAA5FD-05F0-4300-AFAE-8E0F6DA5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14AE6F-476A-4462-83ED-F6A7B5AD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8E1B8E-2E8B-4FFD-ADD8-88999B5E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12B880-DDBE-4477-A5DD-2B1CE8A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CC1691-E136-47EE-B46A-C5885BB9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A78B46-FAF3-400D-B637-CCC6B0C3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692C75-A8CA-45F9-AEC3-A9F34F26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7D25AF-5181-45F6-94F2-5CC70393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3668-5328-4ECC-8DEB-0A0FA78B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C28040-4496-4878-833A-8C278DFD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597CA6-DEF7-46B7-ADCB-C1722C15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EA29AA-24DF-46C4-864C-B421274E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C7BED1-6A69-4E8D-9804-FFE88CFE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A49E24-CA88-42D7-94F5-3AFD8C01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69EA0D-A4F5-44D6-8BA1-F174BC00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60BC7E-89BA-4A85-A24C-15737ABE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4F13BF-E2D1-442E-96A4-9220322F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0FC62A-0ED8-4E56-820E-F427E14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227851-6095-4C48-AF9A-57A8FF04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07CE-3766-4877-8C70-D8B728A0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12D55A-8B86-4540-AB5D-AF9EFD40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9480B5-307B-4121-9B11-3C7F64AC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2C7BFF-2BD1-466C-B885-6D145270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4A88A-32E3-4B7D-B635-2C542B9A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4CD2-D1B5-4E43-AAC5-07E89B6B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635-8687-4D7B-B8F3-9A0E7C55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21201-C541-4D18-855F-1605CB39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02FD-CEE3-4A98-9565-465DB6B0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0360-FA62-4773-94E5-FCF4A73D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75AE-5C0A-4FF1-BEC9-A389F45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099AC-FD3F-41A6-B59C-EE06CEF4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9ED5-EB34-413E-A992-7ECABC97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07157-36E1-44B8-8D54-0F0C4E1D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E00D-8127-458F-BD41-F10A2619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2AF3-DEFD-4851-AA9C-8F9DEBC4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C129D-4D08-487D-84EF-A2883FF0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21C-D3B7-4EDA-A65F-7327B3CC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ADE3B-4031-4830-9618-75D5F815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F504F-09ED-41B9-83EA-48F8B6B7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4A818-E73C-4E90-9BA3-B40852BC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619CE-A085-4EC0-A935-E62A7E3C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4286C-50A5-4BC7-8F83-FB10A5AA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D4E4B-2028-4764-BAD5-06DD0481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181C-EC9B-4708-8C36-61BC4999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93B36-098B-4F5E-B3F8-0FD21FF7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C15EC-926B-446C-82B5-F41326FE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0C8DF-D692-44BF-8105-E5DEB311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1F7-BF44-4E99-82CF-99FDC875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F4A0-A40E-433F-B980-44D7E320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02D9D-25C7-4AB3-8C0B-7D3290BA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DE43B-B921-4645-8140-48B61E5C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EA35E-1155-4599-B413-A95ED64D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7CE56-D473-41EF-9C2E-5A58A89F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06203-83E6-407D-B750-F0A58A28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42757-211F-4DAC-A982-265964A5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96768-05E1-4F8C-A061-6C38050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29842-38E0-484C-B3C6-2FA10631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75E6-4474-4924-B1DB-DE81B0DB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1FF-E05C-4EC3-BF85-4A6CFDA7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28672-1208-4B45-80E6-091194DF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38EF5-0439-4182-A8DD-4CAFE032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01588-187A-4CBE-8D18-C7B73AEF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EE4B0-1CD2-498B-8A19-A103238A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B4ABD-41F2-41DF-BE23-AE1013ED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3B936-F4A9-487F-946C-949543B6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EFC61-D00C-4BD0-878E-35A458DB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43956-3892-4D29-9805-CFD4F673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AAB70-7CDE-4513-A2CF-A21999D6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02522-90AB-44C8-B0BD-783B8D7D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9B1-93D8-46F4-BD32-130DF494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C2C53-A0BD-4F18-A649-F8CC09E2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F24FC-FE01-4CDA-A978-49DB16BA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694CF-BEB9-4366-AE28-BF2A84BA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2F800-C44D-4E53-9493-FCDCC8F3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80931-BD9B-475A-AC41-440D93CD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B0FA6-2D50-493D-8309-C403599D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65309-85F8-41ED-8C83-5661006D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E7FD7-C726-48E5-8B78-79519E76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E7881-33C5-4832-B9CE-61A393DA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F5903-6336-418C-9A50-72BFF8BD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191-3162-4D43-9EF8-6EE3788A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0BE62-8842-4230-8CB5-E25F318F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0E2F3-BD78-46CA-9B26-D2522253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D984F-E648-491F-BE0E-6D57893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647E0-0796-4369-A72C-CEAB2CC2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16EA8-9D8A-44A4-A1E1-9BEF5AAC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BC2C-E0CA-497F-94DB-B913BEC4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2E21D-9125-44AC-99C4-3764D1B4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25474-BBB6-4D22-9AFD-5A81B40C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E3347-D104-440C-9BF2-FAFDC926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9F08B-AD2C-42E4-9D51-C497E5F8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8672-8B9A-4BC7-9F11-428957AD77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6EC5-89B9-409B-AE2B-6D25D2635B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0EDC-FDFE-4BAC-8417-02554D1699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E64C-2AA5-4100-A41E-44A769666A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7C12-2C3A-4E0B-8445-485A9BD634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0E4A-B2D7-417A-A316-6C9D0A8B5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F218-1B5D-4766-A207-4FD201D725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7767-9644-4B0D-B320-303C135DB5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25FF-C0DA-4395-A44D-64ACF5E654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46E5-D127-49D6-8310-8A7CE16195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FF80-ED0A-46A7-BBC9-CB34E59EBC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D749-FF87-4412-AE55-EB7407C19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5F84-76EC-437D-AF19-85675F95D0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2705-ED9F-4994-9E95-937DD0CD66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01EA-B9EB-4CAA-930A-7E98EEFAE4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03A3-2264-4CCB-8A82-8BD763A0D3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12B6-C5A7-4AA8-BAE4-6B9780077A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714D-38DE-4A63-A6D6-72CFFF6F2C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CAA4-00B2-479F-B7CF-4A4E477E7C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9C1A-8F41-4EA0-8B24-B1B317D044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7101-CB40-4B34-AE54-69DF67069C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6E41-5C55-4EFD-A515-2DE657FAAE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4C77-EB8A-4410-A7A9-C8F37BD182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E955-B68A-430B-B8A2-3D3A457D5D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BAD7-50A8-4282-96AB-2A6773E1C3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4EED-3B98-41A9-8A91-2C0A0F744E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A7C9-4C53-472C-B724-6B8C747516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62FA-534C-43E7-BC38-ADE36DC11B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2452-0A3B-43F7-95D6-8AEEFDF343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8629-5F21-48A7-AF80-75EC0DCFD5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A9A4-894C-4C27-ADE9-10B9D5ED7A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C188-3449-4981-9C7F-CECBD74409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B8DF-8919-4AD9-9958-AB0271DA37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64EC-8D0D-4105-A019-D9CEF54BE1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07C9-9E33-471B-A142-7FCF3C0D28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F3DA-197A-4AEA-9069-A87ED919B7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76F0-892D-48C5-9C4F-008510C629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B524-B3E9-4612-96F6-FAB1B04A7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14DA-12D0-43FA-A5A1-F0D4C4CA14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7AC5-8C81-44FD-AA35-1BD1A826B4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1B94-9928-4665-993F-D3A14AC3BB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1F89-30F5-4664-84DE-D873AA9EF4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8CB6-7BA7-4C9B-9FA0-CE736C18AF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9941-7219-4377-BB5D-96E05618D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D6C8-ADEE-4E67-94EF-BCC9CCD3FB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8FE3-9252-4020-9E24-6CFC82CF0A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4562-5191-49BC-B3AB-8D5728F3A6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1160-4E8E-4796-B9C1-60CFBE40BE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1BA6-4DA3-4EFC-93CF-5A2F369F9D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F5F2-3EE8-4C2F-90C2-FCAE67B1B2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162000" y="812880"/>
            <a:ext cx="5619600" cy="83808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666880" y="1747800"/>
            <a:ext cx="4038840" cy="122868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6" descr=""/>
          <p:cNvPicPr/>
          <p:nvPr/>
        </p:nvPicPr>
        <p:blipFill>
          <a:blip r:embed="rId3"/>
          <a:stretch/>
        </p:blipFill>
        <p:spPr>
          <a:xfrm>
            <a:off x="2881440" y="3146400"/>
            <a:ext cx="3076560" cy="371484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7"/>
          <p:cNvSpPr/>
          <p:nvPr/>
        </p:nvSpPr>
        <p:spPr>
          <a:xfrm>
            <a:off x="3995640" y="65451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图片 132097" descr=""/>
          <p:cNvPicPr/>
          <p:nvPr/>
        </p:nvPicPr>
        <p:blipFill>
          <a:blip r:embed="rId1"/>
          <a:stretch/>
        </p:blipFill>
        <p:spPr>
          <a:xfrm>
            <a:off x="282600" y="860400"/>
            <a:ext cx="8096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图片 131073" descr=""/>
          <p:cNvPicPr/>
          <p:nvPr/>
        </p:nvPicPr>
        <p:blipFill>
          <a:blip r:embed="rId1"/>
          <a:stretch/>
        </p:blipFill>
        <p:spPr>
          <a:xfrm>
            <a:off x="608040" y="1004760"/>
            <a:ext cx="7648560" cy="3324240"/>
          </a:xfrm>
          <a:prstGeom prst="rect">
            <a:avLst/>
          </a:prstGeom>
          <a:ln w="0">
            <a:noFill/>
          </a:ln>
        </p:spPr>
      </p:pic>
      <p:sp>
        <p:nvSpPr>
          <p:cNvPr id="1372" name="矩形 131074"/>
          <p:cNvSpPr/>
          <p:nvPr/>
        </p:nvSpPr>
        <p:spPr>
          <a:xfrm>
            <a:off x="677880" y="1028880"/>
            <a:ext cx="59086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1075"/>
          <p:cNvSpPr/>
          <p:nvPr/>
        </p:nvSpPr>
        <p:spPr>
          <a:xfrm>
            <a:off x="698400" y="1952640"/>
            <a:ext cx="555948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1076"/>
          <p:cNvSpPr/>
          <p:nvPr/>
        </p:nvSpPr>
        <p:spPr>
          <a:xfrm>
            <a:off x="576360" y="2560680"/>
            <a:ext cx="768492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1077"/>
          <p:cNvSpPr/>
          <p:nvPr/>
        </p:nvSpPr>
        <p:spPr>
          <a:xfrm>
            <a:off x="525600" y="3495600"/>
            <a:ext cx="768492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图片 130049" descr=""/>
          <p:cNvPicPr/>
          <p:nvPr/>
        </p:nvPicPr>
        <p:blipFill>
          <a:blip r:embed="rId1"/>
          <a:stretch/>
        </p:blipFill>
        <p:spPr>
          <a:xfrm>
            <a:off x="260280" y="768240"/>
            <a:ext cx="81154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图片 129025" descr=""/>
          <p:cNvPicPr/>
          <p:nvPr/>
        </p:nvPicPr>
        <p:blipFill>
          <a:blip r:embed="rId1"/>
          <a:stretch/>
        </p:blipFill>
        <p:spPr>
          <a:xfrm>
            <a:off x="920880" y="843120"/>
            <a:ext cx="5600520" cy="5019480"/>
          </a:xfrm>
          <a:prstGeom prst="rect">
            <a:avLst/>
          </a:prstGeom>
          <a:ln w="0">
            <a:noFill/>
          </a:ln>
        </p:spPr>
      </p:pic>
      <p:sp>
        <p:nvSpPr>
          <p:cNvPr id="1378" name="矩形 129027"/>
          <p:cNvSpPr/>
          <p:nvPr/>
        </p:nvSpPr>
        <p:spPr>
          <a:xfrm>
            <a:off x="985680" y="853920"/>
            <a:ext cx="49834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29028"/>
          <p:cNvSpPr/>
          <p:nvPr/>
        </p:nvSpPr>
        <p:spPr>
          <a:xfrm>
            <a:off x="2168640" y="1440000"/>
            <a:ext cx="490032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29029"/>
          <p:cNvSpPr/>
          <p:nvPr/>
        </p:nvSpPr>
        <p:spPr>
          <a:xfrm>
            <a:off x="2168640" y="2395440"/>
            <a:ext cx="490032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29030"/>
          <p:cNvSpPr/>
          <p:nvPr/>
        </p:nvSpPr>
        <p:spPr>
          <a:xfrm>
            <a:off x="905040" y="3300480"/>
            <a:ext cx="49831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29031"/>
          <p:cNvSpPr/>
          <p:nvPr/>
        </p:nvSpPr>
        <p:spPr>
          <a:xfrm>
            <a:off x="750960" y="3886200"/>
            <a:ext cx="490068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29032"/>
          <p:cNvSpPr/>
          <p:nvPr/>
        </p:nvSpPr>
        <p:spPr>
          <a:xfrm>
            <a:off x="1306440" y="4768920"/>
            <a:ext cx="49831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29033"/>
          <p:cNvSpPr/>
          <p:nvPr/>
        </p:nvSpPr>
        <p:spPr>
          <a:xfrm>
            <a:off x="1419120" y="5354640"/>
            <a:ext cx="49831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图片 140289" descr=""/>
          <p:cNvPicPr/>
          <p:nvPr/>
        </p:nvPicPr>
        <p:blipFill>
          <a:blip r:embed="rId1"/>
          <a:stretch/>
        </p:blipFill>
        <p:spPr>
          <a:xfrm>
            <a:off x="291960" y="932040"/>
            <a:ext cx="8458200" cy="3647880"/>
          </a:xfrm>
          <a:prstGeom prst="rect">
            <a:avLst/>
          </a:prstGeom>
          <a:ln w="0">
            <a:noFill/>
          </a:ln>
        </p:spPr>
      </p:pic>
      <p:sp>
        <p:nvSpPr>
          <p:cNvPr id="1336" name="矩形 140290"/>
          <p:cNvSpPr/>
          <p:nvPr/>
        </p:nvSpPr>
        <p:spPr>
          <a:xfrm>
            <a:off x="4849920" y="1716120"/>
            <a:ext cx="6379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1"/>
          <p:cNvSpPr/>
          <p:nvPr/>
        </p:nvSpPr>
        <p:spPr>
          <a:xfrm>
            <a:off x="7439040" y="1716120"/>
            <a:ext cx="11415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2"/>
          <p:cNvSpPr/>
          <p:nvPr/>
        </p:nvSpPr>
        <p:spPr>
          <a:xfrm>
            <a:off x="6164280" y="2570040"/>
            <a:ext cx="3920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3"/>
          <p:cNvSpPr/>
          <p:nvPr/>
        </p:nvSpPr>
        <p:spPr>
          <a:xfrm>
            <a:off x="7243920" y="2570040"/>
            <a:ext cx="10699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4"/>
          <p:cNvSpPr/>
          <p:nvPr/>
        </p:nvSpPr>
        <p:spPr>
          <a:xfrm>
            <a:off x="709560" y="3379680"/>
            <a:ext cx="63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5"/>
          <p:cNvSpPr/>
          <p:nvPr/>
        </p:nvSpPr>
        <p:spPr>
          <a:xfrm>
            <a:off x="8188200" y="38116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图片 139265" descr=""/>
          <p:cNvPicPr/>
          <p:nvPr/>
        </p:nvPicPr>
        <p:blipFill>
          <a:blip r:embed="rId1"/>
          <a:stretch/>
        </p:blipFill>
        <p:spPr>
          <a:xfrm>
            <a:off x="290520" y="984240"/>
            <a:ext cx="8562960" cy="4076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139266" descr=""/>
          <p:cNvPicPr/>
          <p:nvPr/>
        </p:nvPicPr>
        <p:blipFill>
          <a:blip r:embed="rId2"/>
          <a:stretch/>
        </p:blipFill>
        <p:spPr>
          <a:xfrm>
            <a:off x="324000" y="5175360"/>
            <a:ext cx="5371920" cy="1181160"/>
          </a:xfrm>
          <a:prstGeom prst="rect">
            <a:avLst/>
          </a:prstGeom>
          <a:ln w="0">
            <a:noFill/>
          </a:ln>
        </p:spPr>
      </p:pic>
      <p:sp>
        <p:nvSpPr>
          <p:cNvPr id="1344" name="矩形 139267"/>
          <p:cNvSpPr/>
          <p:nvPr/>
        </p:nvSpPr>
        <p:spPr>
          <a:xfrm>
            <a:off x="8269200" y="1798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8"/>
          <p:cNvSpPr/>
          <p:nvPr/>
        </p:nvSpPr>
        <p:spPr>
          <a:xfrm>
            <a:off x="8280360" y="30718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69"/>
          <p:cNvSpPr/>
          <p:nvPr/>
        </p:nvSpPr>
        <p:spPr>
          <a:xfrm>
            <a:off x="8280360" y="43149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9270"/>
          <p:cNvSpPr/>
          <p:nvPr/>
        </p:nvSpPr>
        <p:spPr>
          <a:xfrm>
            <a:off x="2116080" y="5568840"/>
            <a:ext cx="2508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71"/>
          <p:cNvSpPr/>
          <p:nvPr/>
        </p:nvSpPr>
        <p:spPr>
          <a:xfrm>
            <a:off x="2116080" y="5969160"/>
            <a:ext cx="3176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图片 138241" descr=""/>
          <p:cNvPicPr/>
          <p:nvPr/>
        </p:nvPicPr>
        <p:blipFill>
          <a:blip r:embed="rId1"/>
          <a:stretch/>
        </p:blipFill>
        <p:spPr>
          <a:xfrm>
            <a:off x="403200" y="933480"/>
            <a:ext cx="8515440" cy="461016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8242"/>
          <p:cNvSpPr/>
          <p:nvPr/>
        </p:nvSpPr>
        <p:spPr>
          <a:xfrm>
            <a:off x="6010200" y="1316160"/>
            <a:ext cx="1090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3"/>
          <p:cNvSpPr/>
          <p:nvPr/>
        </p:nvSpPr>
        <p:spPr>
          <a:xfrm>
            <a:off x="1160640" y="2168640"/>
            <a:ext cx="1090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4"/>
          <p:cNvSpPr/>
          <p:nvPr/>
        </p:nvSpPr>
        <p:spPr>
          <a:xfrm>
            <a:off x="666720" y="4952880"/>
            <a:ext cx="554976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图片 137217" descr=""/>
          <p:cNvPicPr/>
          <p:nvPr/>
        </p:nvPicPr>
        <p:blipFill>
          <a:blip r:embed="rId1"/>
          <a:stretch/>
        </p:blipFill>
        <p:spPr>
          <a:xfrm>
            <a:off x="270000" y="876240"/>
            <a:ext cx="8096040" cy="4343400"/>
          </a:xfrm>
          <a:prstGeom prst="rect">
            <a:avLst/>
          </a:prstGeom>
          <a:ln w="0">
            <a:noFill/>
          </a:ln>
        </p:spPr>
      </p:pic>
      <p:sp>
        <p:nvSpPr>
          <p:cNvPr id="1354" name="矩形 137218"/>
          <p:cNvSpPr/>
          <p:nvPr/>
        </p:nvSpPr>
        <p:spPr>
          <a:xfrm>
            <a:off x="5454720" y="37195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6193" descr=""/>
          <p:cNvPicPr/>
          <p:nvPr/>
        </p:nvPicPr>
        <p:blipFill>
          <a:blip r:embed="rId1"/>
          <a:stretch/>
        </p:blipFill>
        <p:spPr>
          <a:xfrm>
            <a:off x="198360" y="893880"/>
            <a:ext cx="8086680" cy="441000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6194"/>
          <p:cNvSpPr/>
          <p:nvPr/>
        </p:nvSpPr>
        <p:spPr>
          <a:xfrm>
            <a:off x="7550280" y="1509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6195"/>
          <p:cNvSpPr/>
          <p:nvPr/>
        </p:nvSpPr>
        <p:spPr>
          <a:xfrm>
            <a:off x="1365120" y="4869000"/>
            <a:ext cx="164484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图片 135169" descr=""/>
          <p:cNvPicPr/>
          <p:nvPr/>
        </p:nvPicPr>
        <p:blipFill>
          <a:blip r:embed="rId1"/>
          <a:stretch/>
        </p:blipFill>
        <p:spPr>
          <a:xfrm>
            <a:off x="114480" y="907920"/>
            <a:ext cx="8153280" cy="3162600"/>
          </a:xfrm>
          <a:prstGeom prst="rect">
            <a:avLst/>
          </a:prstGeom>
          <a:ln w="0">
            <a:noFill/>
          </a:ln>
        </p:spPr>
      </p:pic>
      <p:sp>
        <p:nvSpPr>
          <p:cNvPr id="1359" name="矩形 135170"/>
          <p:cNvSpPr/>
          <p:nvPr/>
        </p:nvSpPr>
        <p:spPr>
          <a:xfrm>
            <a:off x="5373720" y="2620800"/>
            <a:ext cx="14810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图片 134145" descr=""/>
          <p:cNvPicPr/>
          <p:nvPr/>
        </p:nvPicPr>
        <p:blipFill>
          <a:blip r:embed="rId1"/>
          <a:stretch/>
        </p:blipFill>
        <p:spPr>
          <a:xfrm>
            <a:off x="195120" y="860400"/>
            <a:ext cx="8067960" cy="3867120"/>
          </a:xfrm>
          <a:prstGeom prst="rect">
            <a:avLst/>
          </a:prstGeom>
          <a:ln w="0">
            <a:noFill/>
          </a:ln>
        </p:spPr>
      </p:pic>
      <p:sp>
        <p:nvSpPr>
          <p:cNvPr id="1361" name="矩形 134146"/>
          <p:cNvSpPr/>
          <p:nvPr/>
        </p:nvSpPr>
        <p:spPr>
          <a:xfrm>
            <a:off x="820800" y="2600280"/>
            <a:ext cx="7531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4147"/>
          <p:cNvSpPr/>
          <p:nvPr/>
        </p:nvSpPr>
        <p:spPr>
          <a:xfrm>
            <a:off x="779400" y="3103560"/>
            <a:ext cx="7531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4148"/>
          <p:cNvSpPr/>
          <p:nvPr/>
        </p:nvSpPr>
        <p:spPr>
          <a:xfrm>
            <a:off x="800280" y="3710160"/>
            <a:ext cx="7530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4149"/>
          <p:cNvSpPr/>
          <p:nvPr/>
        </p:nvSpPr>
        <p:spPr>
          <a:xfrm>
            <a:off x="789120" y="4233960"/>
            <a:ext cx="7530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图片 133121" descr=""/>
          <p:cNvPicPr/>
          <p:nvPr/>
        </p:nvPicPr>
        <p:blipFill>
          <a:blip r:embed="rId1"/>
          <a:stretch/>
        </p:blipFill>
        <p:spPr>
          <a:xfrm>
            <a:off x="287280" y="846000"/>
            <a:ext cx="8010720" cy="496260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33122"/>
          <p:cNvSpPr/>
          <p:nvPr/>
        </p:nvSpPr>
        <p:spPr>
          <a:xfrm>
            <a:off x="852480" y="3646440"/>
            <a:ext cx="31240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3123"/>
          <p:cNvSpPr/>
          <p:nvPr/>
        </p:nvSpPr>
        <p:spPr>
          <a:xfrm>
            <a:off x="843120" y="4200480"/>
            <a:ext cx="31240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3124"/>
          <p:cNvSpPr/>
          <p:nvPr/>
        </p:nvSpPr>
        <p:spPr>
          <a:xfrm>
            <a:off x="822240" y="4724280"/>
            <a:ext cx="755352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3125"/>
          <p:cNvSpPr/>
          <p:nvPr/>
        </p:nvSpPr>
        <p:spPr>
          <a:xfrm>
            <a:off x="689040" y="5351400"/>
            <a:ext cx="7553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9:43:17Z</dcterms:modified>
  <cp:revision>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